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5769-4372-4F34-ACE6-D40CABA72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2680-78ED-4310-A606-F3F90E8AD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5266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9-</a:t>
            </a:r>
            <a:fld id="{DD12A594-2F94-41EE-9DFB-3BDDA275B185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9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Management: Quality, Time, and the Theory of Constrai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lity As A Competitive Weap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38224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of quality (COQ) are costs incurred to rectify the production of of low-quality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categories of COQ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vention costs (design and process engineer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ppraisal costs (inspection cost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rnal failure costs (spoilage and rewor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ternal failure costs (warranty repair wor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03 - 7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2952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952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ecific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2952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tisfac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2096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f Desig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22096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012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2590920"/>
            <a:ext cx="3049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590920"/>
            <a:ext cx="38124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2590920"/>
            <a:ext cx="3812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2590920"/>
            <a:ext cx="3045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hods to Analyze Quality Probl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800" y="1371600"/>
            <a:ext cx="563112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stical quality control (SQC) or statistical process control (SPC) employ control charts to monitor successive observations at regular intervals of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371600"/>
            <a:ext cx="0" cy="152388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00800" y="289548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213372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175248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251460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1905120"/>
            <a:ext cx="75960" cy="759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22096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86600" y="2362320"/>
            <a:ext cx="76320" cy="759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22096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43800" y="19810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17524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48720" y="1523880"/>
            <a:ext cx="7596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1295280"/>
            <a:ext cx="7596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07 - 7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80880" y="3505320"/>
            <a:ext cx="8077320" cy="990360"/>
            <a:chOff x="380880" y="3505320"/>
            <a:chExt cx="8077320" cy="990360"/>
          </a:xfrm>
        </p:grpSpPr>
        <p:sp>
          <p:nvSpPr>
            <p:cNvPr id="81" name=""/>
            <p:cNvSpPr/>
            <p:nvPr/>
          </p:nvSpPr>
          <p:spPr>
            <a:xfrm>
              <a:off x="6629400" y="3657600"/>
              <a:ext cx="228600" cy="8380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86600" y="3809880"/>
              <a:ext cx="228600" cy="6858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43800" y="3886200"/>
              <a:ext cx="228600" cy="609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001000" y="4191120"/>
              <a:ext cx="228600" cy="3045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00800" y="3505320"/>
              <a:ext cx="0" cy="9903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4495680"/>
              <a:ext cx="2057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0880" y="3581280"/>
              <a:ext cx="5631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areto diagrams indicates the frequency of failures (defects)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80880" y="4724280"/>
            <a:ext cx="8458200" cy="1600200"/>
            <a:chOff x="380880" y="4724280"/>
            <a:chExt cx="8458200" cy="1600200"/>
          </a:xfrm>
        </p:grpSpPr>
        <p:sp>
          <p:nvSpPr>
            <p:cNvPr id="89" name=""/>
            <p:cNvSpPr/>
            <p:nvPr/>
          </p:nvSpPr>
          <p:spPr>
            <a:xfrm>
              <a:off x="6248520" y="50292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00800" y="52578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53080" y="54864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24480" y="57150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72200" y="59436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43800" y="54864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1520" y="510552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91520" y="586728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34320" y="487692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934320" y="548640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487692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8001000" y="548640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34520" y="5486400"/>
              <a:ext cx="304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7543800" y="5562360"/>
              <a:ext cx="228600" cy="75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43800" y="5334120"/>
              <a:ext cx="228600" cy="75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880" y="4724280"/>
              <a:ext cx="56311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ause-and-Effect diagrams identifies potential causes of failures or defects such as human error or component failure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nfinancial Measures of Qua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n if a product is defect free and meets conformance quality, it still must satisfy customer nee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total customer satisfaction including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eatures that provide fair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livery when promi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livery a defect-free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void early fail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sure that product will not fail excessively in 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 attention on costs of poor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financial measures to evaluate savings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nonfinancial measures to monitor suc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3 - 7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ing Quality Perform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8440" y="1294920"/>
            <a:ext cx="845028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antages of Cost of Quality (COQ) Measur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es attention on how costly poor quality can b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ws for  comparison of different programs and setting priori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s a common basis for measuring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antages of nonfinancial measures of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sy to quantify and understan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attention at the precise probl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 intermediate feedback on achiev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 useful long-run indicators of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As A Competitive Weap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8440" y="1294920"/>
            <a:ext cx="845028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 is a key variable in competi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ing things faster helps increase revenues and decreas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nk of time in terms of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response time (order receipt to delivery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-Time Performance:  delivered on promised d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time driver is any factor where change in the factor causes a change in the speed of the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certainty about when the customer will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mited capacity and bottleneck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4 - 7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ory of Constra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8440" y="1295280"/>
            <a:ext cx="84502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ory of Constraints (TOC) describes  methods of maximizing operating income when faced with a bottlenec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oughput contribution:  Sales – direct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s (inventory):  Material inventory, work-in-process, finished goods, R&amp;D, and cost of equipment and building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costs: all operat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ive of TOC is to increase throughput contribution while decreasing investments and operat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9 - 72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ory of Constraint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4502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of Bottleneck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that the bottleneck resource determines throughput contribu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arch and find the bottleneck resour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the bottleneck operation busy and subordinate all nonbottleneck resources to the bottleneck resour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ke action to increase bottleneck efficiency and capac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20 - 72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800" y="4952880"/>
            <a:ext cx="845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 of TOC Actions:  eliminate idle time at the bottleneck, eliminate production of nonessential products, reduce setup time at bottleneck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7T00:30:40Z</dcterms:created>
  <dc:creator>User</dc:creator>
  <dc:description/>
  <dc:language>en-US</dc:language>
  <cp:lastModifiedBy>John Moore</cp:lastModifiedBy>
  <cp:lastPrinted>1999-06-07T01:37:54Z</cp:lastPrinted>
  <dcterms:modified xsi:type="dcterms:W3CDTF">2003-03-22T13:22:39Z</dcterms:modified>
  <cp:revision>20</cp:revision>
  <dc:subject/>
  <dc:title>Quality As A Competitive Weapon</dc:title>
</cp:coreProperties>
</file>